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8A08-1CE0-4E9D-BB71-D36829C6E3C6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6AF4-210B-460B-AF0F-2BD69F92001B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FBD7-C5D3-4FF5-B791-34DA53B8D6BB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D47C-A289-4007-80A6-5550AEA14E39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9F20-DB07-4532-B52A-EF60E957CF84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7E8D-09C2-4F9B-92EC-701512FB0FEA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C1C0-A72F-4E7D-97E5-DBE632B4670A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4DB3-224F-4327-AB9A-E5BD4919BBA2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A6D3-AD1F-4A0D-B899-E48BB5EC297E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C92E-CE52-41ED-8CF4-8F099C795BD1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1307-9392-4ACD-AF1B-65C6759CA790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EEAC-81B0-409B-BDC4-806B04FCCC58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424B-008C-4FE0-8F23-143511BE41EB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073D-D5CE-4F80-8324-9C32ED3CC445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F784-AA00-4BA0-A087-1CD5D5B47091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63AB-4710-4AEC-9F67-74D3B07582EF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7626-5949-4B65-9C64-2B2AE6B70A25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C820-507B-41C9-8359-0F52C5DEFAA2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CD6D-2FB9-4205-8E20-95E089D2D5B1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45C3-7665-48B9-8320-6D38B59212EB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40FE-B85C-44E9-B3DC-3D4F58E263C9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2EC-ADC7-42E0-B227-2D521951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D2E-9BE3-4B1F-99C2-98CADD3B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B73-E197-4487-AC6E-1EA9DEA0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D62-7C87-4452-A575-6F79F84B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F749-142A-4333-AE40-C7940B24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544D-9157-4D4B-BDB7-74970A09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042B-4428-4F57-9341-E31398D7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5DCF-1002-4A90-B0DE-1F7E896B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C7D2-DD78-4190-A791-DB5071C9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084C-641F-4740-B752-22B5D999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01D1-6A6C-464D-B670-CBCF85F8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747-B060-410E-931B-DD26C4E6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2640-9310-4C2A-80FA-D10051B8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1E01-7D7F-439C-AF4C-450B3783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D971-62E9-4FAF-B5C9-043B51DB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FE1B-DA3D-4202-BEAD-B6CCC0E3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F09C-528F-44B0-9439-130B634F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F07A8-E3D0-4E25-9180-0AD0037A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B7ED9-66C1-4804-9485-E649F481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7B575-F638-42E4-B8D8-FF49083A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56A3E-99CA-4D70-9BE4-D982ABE5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DB726-0CF2-4597-A263-75B74EC3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64A-2D65-4B91-B223-5F87E735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4A97D-B68D-47E7-A694-219DFDB1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DDE42-6760-4A7A-B416-0BD3FE4A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7E299-3A9D-46B9-82AF-F236BC2B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B02EF-EE62-47A7-8652-8A0ED85A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350F3-40AD-487C-9F02-FF197E06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546D5-49CF-4FFF-BA98-21505753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EE0D1E-1722-49C0-9ECD-60FC5B1F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83C78-4999-4261-9429-71F89C48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68C3F-6F24-41B3-A508-D331A4E5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EF784-2415-4C3A-9AA9-B21D0883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1D9-33E0-49AD-ADCF-BB6CF8DA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E9CF3-7B8A-42B4-A6BF-F5682894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C1AF6-4445-4FC2-A4B8-D3A9104F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360B7-BB11-49D2-9CB9-F86EC09C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0A62F-9A7E-428D-A13D-3624CAD6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E0ED3-5B2A-49C6-8D2F-70143005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9D762-2A13-4711-9338-34D2D37B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B04B5-7BBB-4A6B-A5A3-40E432EC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04EAF-6659-4BD6-8857-0D2A6A60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74B7F-B0F4-4D11-9374-5552013E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A91B1-557E-48AF-9499-198845FF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831-0448-44D6-89C5-DC280F59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A3011-3E97-4987-A9BE-93264BCC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62042-D471-4130-BB01-03522FC5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7B7AD-8874-45F9-8A42-AEF1F54B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E3F89-6CF4-4FA9-BFB7-EFEF412A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A2359-4D3F-4641-8492-E441E6EB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B543B-F34A-4F30-BA3D-F1370E90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D4A51-403D-4F8C-B3BA-ECA61A9A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FDECC-7D0D-4FDE-AC4C-A0EF8928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49396-A40F-46A2-B933-7F5F2934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81585-10DD-431C-BF16-3414A429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F8A-622D-430E-A746-45F35BCE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32C7E-A632-4A2B-8378-37A6F4ED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11FE0-DBD0-4AFE-A9C2-2E0044A6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C9728-F98D-4DC9-94CB-5B4525A1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BF026-A550-4EE0-9D7B-4D8E532E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B29E3-97CD-4402-8A9E-8FD3BADF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BA91E-8542-4E62-85BA-5A3414E5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0EA99-C29A-4188-A826-D45FF582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F2EFE-AF46-404D-9E69-E59A151F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0C348-C6EC-4EC8-B0E3-C8D05B9F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B28F6-7115-4E09-98FE-ED24B580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D8E-DC89-4EF4-8B15-BBF1CEE2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FD3CF-6C3C-4790-97A3-92D6F5EF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2C910-FFA4-44BC-86EF-5E9371A9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76761-310B-4DA0-A9B9-B4CF8746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E74EF-6B29-4BB1-B59F-F9645DE7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AF039-BD68-445D-80D6-244BEFFC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3EB0E-7D31-4DC3-8BFB-DB324F5C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E5DA0-9E76-4410-9BB2-2CE3CAF9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AB803-7004-4092-8327-8A120278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B4827-692A-4D14-BF5B-88429BA7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0E123-1723-4A02-88C2-688FB607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36E-2AD4-451C-ABEE-E3927062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73161-5273-4E3D-BB10-9F83C131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338C6-9EB8-49D1-850D-745DC721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883C1-3FB2-41CE-B4DE-C5D53C24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A3B96-CD5D-4D9D-B61C-A6076046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9F3FB-C8C9-4B34-891B-666280D3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A3D9D7-9853-46B6-8E74-8E755161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9397D1-C57F-4BFA-834A-881243E2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19BAF4-CB59-411D-8E7B-1AE01835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B9C791-8F9F-41BB-B46A-CE3D13AB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0D6214-F76C-4C97-A619-826A32FB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E7B-7BAA-4595-898A-D9D1DA1F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E504D9-8E10-4D77-914D-FE1FC96D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AA362A-CB85-455B-92C5-351666CA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9C64A2-56AC-4DEF-ADD1-F65042A6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ED21C2-3B8B-4FB5-8F55-4F9DD5E1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9BE2BD-0964-447D-A237-B8F726D8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09220A-6E96-4B60-B758-67F20CEC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41BD6E-5240-44B0-886C-A6A0F17E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D166-1BC4-4828-8862-CBAB4FDC911E}" type="slidenum">
              <a:rPr b="0" lang="fa-IR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367F-116C-4761-80FC-9400BB61B359}" type="slidenum">
              <a:rPr b="1" lang="fa-IR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21C2-4AB3-4B82-BCDD-493BF4C48BDE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1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0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8F68-710F-4F8F-B613-F7F2BD0B2513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8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1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42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67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2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5838-DF75-43D3-A919-166ECA447648}" type="slidenum">
              <a:rPr b="0" lang="fa-IR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1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1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EC50-770D-4094-A318-0A7554D1E609}" type="slidenum">
              <a:rPr b="1" lang="fa-IR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6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752C-51C1-416D-99E0-42C3935F41E6}" type="slidenum">
              <a:rPr b="0" lang="fa-I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3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7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6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19B4-E74D-41F6-B418-520D91533202}" type="slidenum">
              <a:rPr b="0" lang="fa-IR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635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نام درس</a:t>
            </a:r>
            <a:br>
              <a:rPr sz="2400"/>
            </a:br>
            <a:r>
              <a:rPr b="0" lang="fa-IR" sz="2000" spc="-1" strike="noStrike">
                <a:solidFill>
                  <a:srgbClr val="ffff00"/>
                </a:solidFill>
                <a:latin typeface="Arial"/>
                <a:ea typeface="B Sina"/>
              </a:rPr>
              <a:t> روش تحقیق و آمار در علوم تربیتی و روانشناسی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تعداد واحد درسی </a:t>
            </a:r>
            <a:r>
              <a:rPr b="0" lang="fa-IR" sz="2400" spc="-1" strike="noStrike">
                <a:solidFill>
                  <a:srgbClr val="ffff00"/>
                </a:solidFill>
                <a:latin typeface="Arial"/>
                <a:ea typeface="B Sina"/>
              </a:rPr>
              <a:t>3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نام منبع </a:t>
            </a:r>
            <a:br>
              <a:rPr sz="2400"/>
            </a:br>
            <a:r>
              <a:rPr b="0" lang="fa-IR" sz="2000" spc="-1" strike="noStrike">
                <a:solidFill>
                  <a:srgbClr val="ffff00"/>
                </a:solidFill>
                <a:latin typeface="Arial"/>
                <a:cs typeface="B Sina"/>
              </a:rPr>
              <a:t>روش تحقیق در روان شناسی و علوم تربیتی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مولف: دکترعلی دلاور</a:t>
            </a:r>
            <a:br>
              <a:rPr sz="2400"/>
            </a:br>
            <a:r>
              <a:rPr b="0" lang="fa-IR" sz="2400" spc="-1" strike="noStrike">
                <a:solidFill>
                  <a:srgbClr val="ffff00"/>
                </a:solidFill>
                <a:latin typeface="Arial"/>
                <a:cs typeface="B Sina"/>
              </a:rPr>
              <a:t>مدرس: یگانه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e3e3ff"/>
                </a:solidFill>
                <a:latin typeface="Arial"/>
                <a:cs typeface="B Zar"/>
              </a:rPr>
              <a:t>فرمول برآورداندازه نمونه برای مقایسه دو گروه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8080" y="3276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B Zar"/>
              </a:rPr>
              <a:t>فرمول برآورد اندازه نمونه برای یک گرو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6"/>
              <p:cNvSpPr txBox="1"/>
              <p:nvPr/>
            </p:nvSpPr>
            <p:spPr>
              <a:xfrm>
                <a:off x="838080" y="1295280"/>
                <a:ext cx="243864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∝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17"/>
              <p:cNvSpPr txBox="1"/>
              <p:nvPr/>
            </p:nvSpPr>
            <p:spPr>
              <a:xfrm>
                <a:off x="838080" y="2895480"/>
                <a:ext cx="22100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∝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در مطالعات همبستگی حجم نمونه حداقل بایستی 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B Zar"/>
              </a:rPr>
              <a:t>30</a:t>
            </a:r>
            <a:r>
              <a:rPr b="1" lang="fa-IR" sz="3600" spc="-1" strike="noStrike">
                <a:solidFill>
                  <a:srgbClr val="ffffff"/>
                </a:solidFill>
                <a:latin typeface="Arial"/>
                <a:ea typeface="B Zar"/>
              </a:rPr>
              <a:t> نفر باشد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596240" y="8341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  <a:cs typeface="B Zar"/>
              </a:rPr>
              <a:t>تحقیق تاریخی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3366"/>
                </a:solidFill>
                <a:latin typeface="Arial"/>
                <a:cs typeface="B Zar"/>
              </a:rPr>
              <a:t>پس از پایان این فصل دانشجو باید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1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با ماهیت واهداف پژوهش تاریخی آشنا شو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2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مراحل پژوهش تاریخی را نام ببری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3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منابع مدارک تاریخی را بشناس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Garamond"/>
                <a:cs typeface="B Zar"/>
              </a:rPr>
              <a:t>براساس گفته قدمای یونان ، تاریخ عبارت است از پژوهش به منظور باز سازی اتفاقات گذشته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Zar"/>
              </a:rPr>
              <a:t>ویژگیهای پژوهش تاریخی 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پیچیدگی نسبی اطلاع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گاهی ناقص بودن اطلاع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عدم توانایی در آزمون آنها به صورت آزمایشی وکنترل شرای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نسبی بودن معیارهای تجزیه وتحلی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e5e5ff"/>
                </a:solidFill>
                <a:latin typeface="Garamond"/>
                <a:cs typeface="B Zar"/>
              </a:rPr>
              <a:t>پژوهش تاریخی را می توان بر اساس ملاکهای زیر طبقه بندی کرد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رو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موضو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کنی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Zar"/>
              </a:rPr>
              <a:t>اهداف پژوهش تاریخی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هدف مقدماتی آن بدست آوردن دیدگاه روشنی از زمان حال اس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محرک اصلی آن تمایلات مورخ در دستیابی به حقایق گذشته است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Zar"/>
              </a:rPr>
              <a:t>مراحل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عریف ومحدود کردن مسأل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صورتبندی کردن فرضی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جمع آوری کردن اطلاعات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ارزشیابی اطلاعات ومناب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5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جزیه وتحلیل و نتیجه گیر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6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Zar"/>
              </a:rPr>
              <a:t>. تهیه گزار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Content Placeholder 224261"/>
          <p:cNvGrpSpPr/>
          <p:nvPr/>
        </p:nvGrpSpPr>
        <p:grpSpPr>
          <a:xfrm>
            <a:off x="457200" y="685800"/>
            <a:ext cx="8228160" cy="3809160"/>
            <a:chOff x="457200" y="685800"/>
            <a:chExt cx="8228160" cy="3809160"/>
          </a:xfrm>
        </p:grpSpPr>
        <p:cxnSp>
          <p:nvCxnSpPr>
            <p:cNvPr id="532" name="_s4100"/>
            <p:cNvCxnSpPr>
              <a:stCxn id="533" idx="3"/>
              <a:endCxn id="534" idx="2"/>
            </p:cNvCxnSpPr>
            <p:nvPr/>
          </p:nvCxnSpPr>
          <p:spPr>
            <a:xfrm flipV="1">
              <a:off x="5393880" y="1637280"/>
              <a:ext cx="823320" cy="2381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5" name="_s4101"/>
            <p:cNvCxnSpPr>
              <a:stCxn id="536" idx="3"/>
              <a:endCxn id="534" idx="2"/>
            </p:cNvCxnSpPr>
            <p:nvPr/>
          </p:nvCxnSpPr>
          <p:spPr>
            <a:xfrm flipV="1">
              <a:off x="5393880" y="1637280"/>
              <a:ext cx="823320" cy="952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4" name="_s4102"/>
            <p:cNvSpPr/>
            <p:nvPr/>
          </p:nvSpPr>
          <p:spPr>
            <a:xfrm>
              <a:off x="3748320" y="685800"/>
              <a:ext cx="4937040" cy="9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600" spc="-1" strike="noStrike">
                  <a:solidFill>
                    <a:srgbClr val="ffffff"/>
                  </a:solidFill>
                  <a:latin typeface="Arial"/>
                </a:rPr>
                <a:t>طبقه بندی منابع تاریخ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4103"/>
            <p:cNvSpPr/>
            <p:nvPr/>
          </p:nvSpPr>
          <p:spPr>
            <a:xfrm>
              <a:off x="457200" y="2114280"/>
              <a:ext cx="4937040" cy="9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ffffff"/>
                  </a:solidFill>
                  <a:latin typeface="Arial"/>
                </a:rPr>
                <a:t>اسناد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4104"/>
            <p:cNvSpPr/>
            <p:nvPr/>
          </p:nvSpPr>
          <p:spPr>
            <a:xfrm>
              <a:off x="457200" y="3542760"/>
              <a:ext cx="4937040" cy="9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ffffff"/>
                  </a:solidFill>
                  <a:latin typeface="Arial"/>
                </a:rPr>
                <a:t>آثار و ابنیه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66"/>
                </a:solidFill>
                <a:latin typeface="Garamond"/>
                <a:cs typeface="B Zar"/>
              </a:rPr>
              <a:t>منابع دست اول</a:t>
            </a:r>
            <a:r>
              <a:rPr b="1" lang="fa-IR" sz="3600" spc="-1" strike="noStrike">
                <a:solidFill>
                  <a:srgbClr val="ffffff"/>
                </a:solidFill>
                <a:latin typeface="Garamond"/>
                <a:ea typeface="B Zar"/>
              </a:rPr>
              <a:t> توسط مشاهده واقعی حادثه ارائه شده اند در حالیکه </a:t>
            </a:r>
            <a:r>
              <a:rPr b="1" lang="fa-IR" sz="3600" spc="-1" strike="noStrike">
                <a:solidFill>
                  <a:srgbClr val="ffff66"/>
                </a:solidFill>
                <a:latin typeface="Garamond"/>
                <a:cs typeface="B Zar"/>
              </a:rPr>
              <a:t>منابع دست دوم</a:t>
            </a:r>
            <a:r>
              <a:rPr b="1" lang="fa-IR" sz="3600" spc="-1" strike="noStrike">
                <a:solidFill>
                  <a:srgbClr val="ffffff"/>
                </a:solidFill>
                <a:latin typeface="Garamond"/>
                <a:ea typeface="B Zar"/>
              </a:rPr>
              <a:t> از طریق واسطه به پژوهشگر رسیده اند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  <a:cs typeface="B Zar"/>
              </a:rPr>
              <a:t>فصل پنجم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3366"/>
                </a:solidFill>
                <a:latin typeface="Arial"/>
                <a:cs typeface="B Zar"/>
              </a:rPr>
              <a:t>پس از پایان فصل دانشجو باید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1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جامعه پژوهشی را تعریف کن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2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ضمن تعریف نمونه گیری ، انواع آن را بیان کن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3</a:t>
            </a:r>
            <a:r>
              <a:rPr b="0" lang="fa-IR" sz="2800" spc="-1" strike="noStrike">
                <a:solidFill>
                  <a:srgbClr val="003366"/>
                </a:solidFill>
                <a:latin typeface="Arial"/>
                <a:ea typeface="B Zar"/>
              </a:rPr>
              <a:t>. روشهای بر آورد حجم نمونه را بیان کن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Garamond"/>
                <a:cs typeface="B Zar"/>
              </a:rPr>
              <a:t>در نقد یا اعتبار بیرونی ، سندیت مدرک یا اثر مورد ارزشیابی قرار می گیرد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Garamond"/>
                <a:cs typeface="B Zar"/>
              </a:rPr>
              <a:t>در اعتبار درونی ، انگیزه ، تمایلات و محدودیتهای صاحب منبع مورد نظر است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 rtl="1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اولین قدم در نمونه گیری ، تعریف جامعه مورد نظر است وآن عبارت است از اینکه اعضای واقعی یا فرضی که علاقمند هستیم یافته های پژوهش را به آنها تعمیم دهی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نمونه گیری یعنی انتخاب تعدادی از افراد ،حوادث یا اشیاء از یک جامعه تعریف شده به عنوان نماینده آن جامع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مزیت انتخاب یک نمونه از یک جامعه ،جلوگیری از اتلاف وقت وصرفه جویی در منابع مالی است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Content Placeholder 194565"/>
          <p:cNvGrpSpPr/>
          <p:nvPr/>
        </p:nvGrpSpPr>
        <p:grpSpPr>
          <a:xfrm>
            <a:off x="457200" y="762120"/>
            <a:ext cx="8228880" cy="4615560"/>
            <a:chOff x="457200" y="762120"/>
            <a:chExt cx="8228880" cy="4615560"/>
          </a:xfrm>
        </p:grpSpPr>
        <p:cxnSp>
          <p:nvCxnSpPr>
            <p:cNvPr id="490" name="_s1028"/>
            <p:cNvCxnSpPr>
              <a:stCxn id="491" idx="0"/>
              <a:endCxn id="492" idx="2"/>
            </p:cNvCxnSpPr>
            <p:nvPr/>
          </p:nvCxnSpPr>
          <p:spPr>
            <a:xfrm flipV="1" rot="16200000">
              <a:off x="4240440" y="3481200"/>
              <a:ext cx="420120" cy="1694520"/>
            </a:xfrm>
            <a:prstGeom prst="bentConnector3">
              <a:avLst>
                <a:gd name="adj1" fmla="val 216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93" name="_s1029"/>
            <p:cNvCxnSpPr>
              <a:stCxn id="494" idx="0"/>
              <a:endCxn id="492" idx="2"/>
            </p:cNvCxnSpPr>
            <p:nvPr/>
          </p:nvCxnSpPr>
          <p:spPr>
            <a:xfrm flipH="1" flipV="1" rot="5400000">
              <a:off x="2546280" y="3480840"/>
              <a:ext cx="420120" cy="1695240"/>
            </a:xfrm>
            <a:prstGeom prst="bentConnector3">
              <a:avLst>
                <a:gd name="adj1" fmla="val 216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95" name="_s1030"/>
            <p:cNvCxnSpPr>
              <a:stCxn id="492" idx="3"/>
              <a:endCxn id="496" idx="2"/>
            </p:cNvCxnSpPr>
            <p:nvPr/>
          </p:nvCxnSpPr>
          <p:spPr>
            <a:xfrm flipV="1">
              <a:off x="5055840" y="1600920"/>
              <a:ext cx="2178360" cy="209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97" name="_s1031"/>
            <p:cNvCxnSpPr>
              <a:stCxn id="498" idx="3"/>
              <a:endCxn id="496" idx="2"/>
            </p:cNvCxnSpPr>
            <p:nvPr/>
          </p:nvCxnSpPr>
          <p:spPr>
            <a:xfrm flipV="1">
              <a:off x="5055840" y="1600560"/>
              <a:ext cx="2178360" cy="83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6" name="_s1032"/>
            <p:cNvSpPr/>
            <p:nvPr/>
          </p:nvSpPr>
          <p:spPr>
            <a:xfrm>
              <a:off x="5781960" y="76212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ffff"/>
                  </a:solidFill>
                  <a:latin typeface="Arial"/>
                </a:rPr>
                <a:t>روشهای نمونه گیر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_s1033"/>
            <p:cNvSpPr/>
            <p:nvPr/>
          </p:nvSpPr>
          <p:spPr>
            <a:xfrm>
              <a:off x="2151720" y="202068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تصادف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_s1034"/>
            <p:cNvSpPr/>
            <p:nvPr/>
          </p:nvSpPr>
          <p:spPr>
            <a:xfrm>
              <a:off x="2151720" y="327960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غیر تصادق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_s1035"/>
            <p:cNvSpPr/>
            <p:nvPr/>
          </p:nvSpPr>
          <p:spPr>
            <a:xfrm>
              <a:off x="457200" y="453852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داوطلبانه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_s1036"/>
            <p:cNvSpPr/>
            <p:nvPr/>
          </p:nvSpPr>
          <p:spPr>
            <a:xfrm>
              <a:off x="3845520" y="4538520"/>
              <a:ext cx="2904120" cy="83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در دستر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Content Placeholder 197637"/>
          <p:cNvGrpSpPr/>
          <p:nvPr/>
        </p:nvGrpSpPr>
        <p:grpSpPr>
          <a:xfrm>
            <a:off x="457200" y="258840"/>
            <a:ext cx="8228160" cy="5806440"/>
            <a:chOff x="457200" y="258840"/>
            <a:chExt cx="8228160" cy="5806440"/>
          </a:xfrm>
        </p:grpSpPr>
        <p:cxnSp>
          <p:nvCxnSpPr>
            <p:cNvPr id="500" name="_s2052"/>
            <p:cNvCxnSpPr>
              <a:stCxn id="501" idx="3"/>
              <a:endCxn id="502" idx="2"/>
            </p:cNvCxnSpPr>
            <p:nvPr/>
          </p:nvCxnSpPr>
          <p:spPr>
            <a:xfrm flipV="1">
              <a:off x="5393880" y="1087560"/>
              <a:ext cx="823320" cy="4563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3" name="_s2053"/>
            <p:cNvCxnSpPr>
              <a:stCxn id="504" idx="3"/>
              <a:endCxn id="502" idx="2"/>
            </p:cNvCxnSpPr>
            <p:nvPr/>
          </p:nvCxnSpPr>
          <p:spPr>
            <a:xfrm flipV="1">
              <a:off x="5393880" y="1087560"/>
              <a:ext cx="823320" cy="331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5" name="_s2054"/>
            <p:cNvCxnSpPr>
              <a:stCxn id="506" idx="3"/>
              <a:endCxn id="502" idx="2"/>
            </p:cNvCxnSpPr>
            <p:nvPr/>
          </p:nvCxnSpPr>
          <p:spPr>
            <a:xfrm flipV="1">
              <a:off x="5393880" y="1087920"/>
              <a:ext cx="823320" cy="2074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07" name="_s2055"/>
            <p:cNvCxnSpPr>
              <a:stCxn id="508" idx="3"/>
              <a:endCxn id="502" idx="2"/>
            </p:cNvCxnSpPr>
            <p:nvPr/>
          </p:nvCxnSpPr>
          <p:spPr>
            <a:xfrm flipV="1">
              <a:off x="5393880" y="1087920"/>
              <a:ext cx="823320" cy="830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_s2056"/>
            <p:cNvSpPr/>
            <p:nvPr/>
          </p:nvSpPr>
          <p:spPr>
            <a:xfrm>
              <a:off x="3748320" y="25884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600" spc="-1" strike="noStrike">
                  <a:solidFill>
                    <a:srgbClr val="ffffff"/>
                  </a:solidFill>
                  <a:latin typeface="Arial"/>
                </a:rPr>
                <a:t>انواع نمونه گیری تصادف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_s2057"/>
            <p:cNvSpPr/>
            <p:nvPr/>
          </p:nvSpPr>
          <p:spPr>
            <a:xfrm>
              <a:off x="457200" y="150300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تصادفی ساده</a:t>
              </a: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_s2058"/>
            <p:cNvSpPr/>
            <p:nvPr/>
          </p:nvSpPr>
          <p:spPr>
            <a:xfrm>
              <a:off x="457200" y="274716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تصادفی منظ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_s2059"/>
            <p:cNvSpPr/>
            <p:nvPr/>
          </p:nvSpPr>
          <p:spPr>
            <a:xfrm>
              <a:off x="457200" y="399168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طبقه ای</a:t>
              </a: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_s2060"/>
            <p:cNvSpPr/>
            <p:nvPr/>
          </p:nvSpPr>
          <p:spPr>
            <a:xfrm>
              <a:off x="457200" y="5235840"/>
              <a:ext cx="4937040" cy="829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400" spc="-1" strike="noStrike">
                  <a:solidFill>
                    <a:srgbClr val="ffffff"/>
                  </a:solidFill>
                  <a:latin typeface="Arial"/>
                </a:rPr>
                <a:t>خوشه ا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Arial"/>
                <a:cs typeface="B Zar"/>
              </a:rPr>
              <a:t>خطای نمونه گیری تابع اندازه حجم نمونه است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e3e3ff"/>
                </a:solidFill>
                <a:latin typeface="Arial"/>
                <a:cs typeface="B Zar"/>
              </a:rPr>
              <a:t>در شرایط زیر بایستی نمونه را بزرگ انتخاب کرد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وجود متغیرهای کنترل نشده زیاد در تحقی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پیش بینی تفاوت یا همبستگی پایی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تقسیم گروه نمونه به زیرگروههای فرع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نامتجانس بود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5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  <a:ea typeface="B Zar"/>
              </a:rPr>
              <a:t>. عدم وجودوسیله پایا برای اندازه گیری متغیروابست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20:18:51Z</dcterms:created>
  <dc:creator>Your User Name</dc:creator>
  <dc:description/>
  <dc:language>en-US</dc:language>
  <cp:lastModifiedBy>Aramesh</cp:lastModifiedBy>
  <dcterms:modified xsi:type="dcterms:W3CDTF">2020-04-18T10:53:59Z</dcterms:modified>
  <cp:revision>3</cp:revision>
  <dc:subject/>
  <dc:title>نام درس مقدمات روش تحقیق درعلوم تربیتی  تعداد واحد درسی 3واحد  نام منبع  روش تحقیق درروان شناسی وعلوم تربیتی  مولف دکترعلی دلاور  تهیه کننده اسلاید عباس میربلوک بزرگی-عضو هیئت علمی مرکز تالش-منطقه یک</dc:title>
</cp:coreProperties>
</file>