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5715-BC17-40FE-ADA9-A37D7C1658AF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8E1A-EBAC-4E79-BE0C-F5F31642B37F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BDBB-3BC9-4DA1-A048-93F8F508BCE3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AEF9-A4ED-485A-80E2-C46131AA10DE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590B-508F-4411-9720-CD90E57E9CA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E813-80DC-481F-A306-44922550833D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3AE5-0202-4EEF-A5C5-2B09386D7C24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AA4F-51D7-4391-BEB8-12F870E17704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1B08-B5B1-459E-A32E-D9AD89206DA4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5DAD-7383-4D28-AEBB-8AB07D0AA59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09A0-C261-45D6-9BF5-4165FD713DE4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C942-DF5E-41B2-B22E-296E82E07F6E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7E76-F6A9-4587-85BA-28A3C0696939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9918-C1F2-4389-A245-A2F4A8301236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F9DF-7E82-4A1D-8143-92AD46DE52C9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AD15-6ED1-4B96-98D7-0B53C2B7BDDC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BBE7-5F9E-4638-BD76-9472648DD64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3565-59A4-40EB-9CBA-EF1E7724BA54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46E6-8713-4FE4-85D2-F53CAD7C57F8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EB55-2D6C-464D-8FF0-BB401B20A232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4E8E-86DB-49A4-9A23-AB8D92663F6F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641-B04A-43FA-96D0-4900E2CC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293-1AC3-4BD5-A8D5-35C7709B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7C5-DA8F-4D48-A6A9-552C9B6B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665-E4A4-444F-A1DC-AD7EBEF3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12FD-8911-4C18-8EF7-67113DB1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DEAE-9417-45A6-A0E1-C368E4D6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881B-0522-48E3-9042-8D15F21D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296C-459E-4C29-9E8F-172FE907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5EF0-2CAA-414D-B79F-91596009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AB9A-E171-4BA2-8491-19FC8D29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3FB5-8E6E-4A8C-B525-9D01AF2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454-4A61-4763-B032-48B63BA9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756D-4685-4B34-BED6-BFEA32AF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85AD-76E6-42E2-9FFC-9A6757C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4161-D6EC-4388-ACF1-AC558306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43DF-84D1-44BF-85D3-9CEC026F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3F27-3EC0-4ACD-ADAA-8A21F949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09AD0-E190-428B-88E3-862C074E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8AB4B-E779-4E22-B494-3F21F5A3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888B1-1BF7-4A5A-B671-69A4E82A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B7EAC-2DEF-478D-878F-287516FC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88D2D-8D89-4092-88C4-551AEDD4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B6E-BB6E-457C-BFF7-6384E6B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14388-5550-45E0-B61D-12647EF0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AAFF3-3ECB-4247-9A91-D6068478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ED9D0-CFC4-4720-AB38-84A9C61C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6BD80-C7E7-4F0F-A975-2902B5D0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A0832-A2EE-4BC6-8C90-F6D60890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CDAB7-56F0-4386-9547-705C125F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4D40F-C43B-4108-A0C6-C48E1AC3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6C39-CF90-425F-9DBB-12C3412A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E0D1-A5C5-452A-99B3-AC82BB4E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EB809-B1C5-4492-BAA8-AFF7CA33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EB1-20F5-4EF9-9367-B7514C6E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4198-73C1-4739-A5BB-BA2F10B0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34618-28FB-4B86-BC8E-E4521621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040E-CCEB-431D-B059-5E5B21F2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4FA83-3A61-4BB5-BB69-13BFBB1F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A622-EB18-40B9-B81E-F4082AD2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99CD-CA8C-4D5C-BA0B-465344A0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51F4-7DB5-4757-B106-27DC158F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38559-C9AA-4188-8C43-F9F0A2E8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96417-236D-4B4F-8D0A-10B1F4BB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06446-35AB-4B03-8B10-F0B6250E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91C-24D4-4D79-85FC-EC2DAEBE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83971-064D-4631-836F-0427CFDA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E07A6-373E-48E1-A1A5-955E5BEF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5CC37-1A94-4B8A-A3CC-7FB44289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D891F-DE98-4A96-B472-5E2CCC94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FF09-08BC-419D-95FF-86D937E6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E78EA-24E5-4898-934A-22BB1FDA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D9651-7D86-4FAD-861D-5811CF6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FB0E7-BE03-447A-81D7-D3C639A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5018C-2133-4755-82CF-5EF42698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1CD1-BE2E-4E70-A1CD-D49BA8FE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B29-BD00-42F7-B3E3-495CC4E1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3F5C-D773-40A1-8748-1C15CD48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0D69-1105-4F1A-B0AA-A6FD338A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40541-C323-4B47-80A5-7E8374CE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03751-74F5-49DB-81C4-1BD19F95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9BA1C-9CEE-4C8A-BCD0-182FE609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2E0FC-073B-473B-AC3E-EE58199F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7E60E-4553-4E97-8BFF-9775FE8B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58B71-2B64-4FA8-988F-8DB9A6D0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0F326-5C37-4549-BEF8-9D13F008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BE427-62FA-40E1-8F85-1037AC81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225-042F-421D-A0E6-6A7DC8B6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BB0CA-A646-4736-8440-5C065117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988E0-2AEE-4DC0-B368-F5E09B9E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5AA94-E340-449A-BCDC-ABBBABDB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FCA05-6F8C-4D41-AC5E-E25BA731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4A5C3-4C62-43AA-BC52-11712D85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557CF-E40A-4FBA-A28A-738B6E47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322E7-F133-49E9-8B8A-59960F98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F1AEE-8FBE-48F8-90F5-6F9D6A05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4C4EC-1066-4F86-B021-F76AA72A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C42B4-ADDB-41B2-990F-4A9BC18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9D2-0DFE-4A11-9F69-BD8A7C3F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ACC03-10C5-4D8A-89D2-8D91521F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3E3EE-8A16-439B-9BB5-DEFD9C3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E7F2E-1BA1-4299-8C25-56984E5A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48979-9559-4D0D-B258-52F9E37A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07470-DEA8-4B04-A1E5-9930688D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AD7A20-FDBA-4B52-807E-D20E14A6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CEF2E6-C705-4057-90E5-08C6E4F5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EF6994-4138-4F18-AFE7-21E65B48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3B14E-98DF-4BAD-99F1-1F940E0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5F81FD-C8CC-4A15-817C-6A7F7A70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2C8-8E03-48A4-B284-7EE8883C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60592B-D702-419F-8F25-7EBC9926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724312-3C22-46D8-A80F-8038097A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2F61AD-F7C1-46BA-984E-B1EA053E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EB0316-0B67-401C-B373-96E5EC2B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79A3E-C5A3-4817-B76F-DE97FEA5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8BFAB4-C2BC-4CA3-B29A-C7571D31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4F75FE-6817-497D-AF6F-3F18FE22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8309-3422-4F56-8C22-5C515C8040A8}" type="slidenum">
              <a:rPr b="0" lang="fa-IR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630B-8B0A-4C46-AEFD-0B7400498DCF}" type="slidenum">
              <a:rPr b="1" lang="fa-IR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2B3F-1DEC-4EA6-8A17-323B2659F53B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1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0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4DAF-06D7-426D-981D-17FEC0E37916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8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67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2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89D2-D5BC-477E-BABF-8B670C5681E2}" type="slidenum">
              <a:rPr b="0" lang="fa-IR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1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1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630E-1767-4208-8492-485B9E4BA7BE}" type="slidenum">
              <a:rPr b="1" lang="fa-IR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9EFC-0BAE-4382-BA6F-72BAF140BCC1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3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7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329C-431D-4C9B-BA3D-8362266ACFF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635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نام درس</a:t>
            </a:r>
            <a:br>
              <a:rPr sz="2400"/>
            </a:br>
            <a:r>
              <a:rPr b="0" lang="fa-IR" sz="2000" spc="-1" strike="noStrike">
                <a:solidFill>
                  <a:srgbClr val="ffff00"/>
                </a:solidFill>
                <a:latin typeface="Arial"/>
                <a:ea typeface="B Sina"/>
              </a:rPr>
              <a:t> روش تحقیق و آمار در علوم تربیتی و روانشناسی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تعداد واحد درسی </a:t>
            </a:r>
            <a:r>
              <a:rPr b="0" lang="fa-IR" sz="2400" spc="-1" strike="noStrike">
                <a:solidFill>
                  <a:srgbClr val="ffff00"/>
                </a:solidFill>
                <a:latin typeface="Arial"/>
                <a:ea typeface="B Sina"/>
              </a:rPr>
              <a:t>3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نام منبع </a:t>
            </a:r>
            <a:br>
              <a:rPr sz="2400"/>
            </a:br>
            <a:r>
              <a:rPr b="0" lang="fa-IR" sz="2000" spc="-1" strike="noStrike">
                <a:solidFill>
                  <a:srgbClr val="ffff00"/>
                </a:solidFill>
                <a:latin typeface="Arial"/>
                <a:cs typeface="B Sina"/>
              </a:rPr>
              <a:t>روش تحقیق در روان شناسی و علوم تربیتی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مولف: دکترعلی دلاور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مدرس: یگانه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3e3ff"/>
                </a:solidFill>
                <a:latin typeface="Arial"/>
                <a:cs typeface="B Zar"/>
              </a:rPr>
              <a:t>فرمول برآورداندازه نمونه برای مقایسه دو گروه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B Zar"/>
              </a:rPr>
              <a:t>فرمول برآورد اندازه نمونه برای یک گرو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6"/>
              <p:cNvSpPr txBox="1"/>
              <p:nvPr/>
            </p:nvSpPr>
            <p:spPr>
              <a:xfrm>
                <a:off x="838080" y="1295280"/>
                <a:ext cx="24386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∝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7"/>
              <p:cNvSpPr txBox="1"/>
              <p:nvPr/>
            </p:nvSpPr>
            <p:spPr>
              <a:xfrm>
                <a:off x="838080" y="2895480"/>
                <a:ext cx="22100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∝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در مطالعات همبستگی حجم نمونه حداقل بایستی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B Zar"/>
              </a:rPr>
              <a:t>30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B Zar"/>
              </a:rPr>
              <a:t> نفر باشد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5962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  <a:cs typeface="B Zar"/>
              </a:rPr>
              <a:t>تحقیق تاریخی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3366"/>
                </a:solidFill>
                <a:latin typeface="Arial"/>
                <a:cs typeface="B Zar"/>
              </a:rPr>
              <a:t>پس از پایان این فصل دانشجو باید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1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با ماهیت واهداف پژوهش تاریخی آشنا شو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2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مراحل پژوهش تاریخی را نام ببری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3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منابع مدارک تاریخی را بشناس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براساس گفته قدمای یونان ، تاریخ عبارت است از پژوهش به منظور باز سازی اتفاقات گذشت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ویژگیهای پژوهش تاریخی 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پیچیدگی نسبی اطلا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گاهی ناقص بودن اطلا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عدم توانایی در آزمون آنها به صورت آزمایشی وکنترل شرا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نسبی بودن معیارهای تجزیه وتحلی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5e5ff"/>
                </a:solidFill>
                <a:latin typeface="Garamond"/>
                <a:cs typeface="B Zar"/>
              </a:rPr>
              <a:t>پژوهش تاریخی را می توان بر اساس ملاکهای زیر طبقه بندی کرد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رو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موضو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کنی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اهداف پژوهش تاریخی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هدف مقدماتی آن بدست آوردن دیدگاه روشنی از زمان حال اس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محرک اصلی آن تمایلات مورخ در دستیابی به حقایق گذشته اس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مراحل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عریف ومحدود کردن مسأل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صورتبندی کردن فرض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جمع آوری کردن اطلاعا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ارزشیابی اطلاعات ومناب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جزیه وتحلیل و نتیجه گی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6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هیه گزار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Content Placeholder 224261"/>
          <p:cNvGrpSpPr/>
          <p:nvPr/>
        </p:nvGrpSpPr>
        <p:grpSpPr>
          <a:xfrm>
            <a:off x="457200" y="685800"/>
            <a:ext cx="8228160" cy="3809160"/>
            <a:chOff x="457200" y="685800"/>
            <a:chExt cx="8228160" cy="3809160"/>
          </a:xfrm>
        </p:grpSpPr>
        <p:cxnSp>
          <p:nvCxnSpPr>
            <p:cNvPr id="532" name="_s4100"/>
            <p:cNvCxnSpPr>
              <a:stCxn id="533" idx="3"/>
              <a:endCxn id="534" idx="2"/>
            </p:cNvCxnSpPr>
            <p:nvPr/>
          </p:nvCxnSpPr>
          <p:spPr>
            <a:xfrm flipV="1">
              <a:off x="5393880" y="1637280"/>
              <a:ext cx="823320" cy="2381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4101"/>
            <p:cNvCxnSpPr>
              <a:stCxn id="536" idx="3"/>
              <a:endCxn id="534" idx="2"/>
            </p:cNvCxnSpPr>
            <p:nvPr/>
          </p:nvCxnSpPr>
          <p:spPr>
            <a:xfrm flipV="1">
              <a:off x="5393880" y="1637280"/>
              <a:ext cx="823320" cy="952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4" name="_s4102"/>
            <p:cNvSpPr/>
            <p:nvPr/>
          </p:nvSpPr>
          <p:spPr>
            <a:xfrm>
              <a:off x="3748320" y="68580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600" spc="-1" strike="noStrike">
                  <a:solidFill>
                    <a:srgbClr val="ffffff"/>
                  </a:solidFill>
                  <a:latin typeface="Arial"/>
                </a:rPr>
                <a:t>طبقه بندی منابع تاریخ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4103"/>
            <p:cNvSpPr/>
            <p:nvPr/>
          </p:nvSpPr>
          <p:spPr>
            <a:xfrm>
              <a:off x="457200" y="211428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اسناد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4104"/>
            <p:cNvSpPr/>
            <p:nvPr/>
          </p:nvSpPr>
          <p:spPr>
            <a:xfrm>
              <a:off x="457200" y="354276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آثار و ابنیه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66"/>
                </a:solidFill>
                <a:latin typeface="Garamond"/>
                <a:cs typeface="B Zar"/>
              </a:rPr>
              <a:t>منابع دست اول</a:t>
            </a:r>
            <a:r>
              <a:rPr b="1" lang="fa-IR" sz="3600" spc="-1" strike="noStrike">
                <a:solidFill>
                  <a:srgbClr val="ffffff"/>
                </a:solidFill>
                <a:latin typeface="Garamond"/>
                <a:ea typeface="B Zar"/>
              </a:rPr>
              <a:t> توسط مشاهده واقعی حادثه ارائه شده اند در حالیکه </a:t>
            </a:r>
            <a:r>
              <a:rPr b="1" lang="fa-IR" sz="3600" spc="-1" strike="noStrike">
                <a:solidFill>
                  <a:srgbClr val="ffff66"/>
                </a:solidFill>
                <a:latin typeface="Garamond"/>
                <a:cs typeface="B Zar"/>
              </a:rPr>
              <a:t>منابع دست دوم</a:t>
            </a:r>
            <a:r>
              <a:rPr b="1" lang="fa-IR" sz="3600" spc="-1" strike="noStrike">
                <a:solidFill>
                  <a:srgbClr val="ffffff"/>
                </a:solidFill>
                <a:latin typeface="Garamond"/>
                <a:ea typeface="B Zar"/>
              </a:rPr>
              <a:t> از طریق واسطه به پژوهشگر رسیده اند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  <a:cs typeface="B Zar"/>
              </a:rPr>
              <a:t>فصل پنجم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3366"/>
                </a:solidFill>
                <a:latin typeface="Arial"/>
                <a:cs typeface="B Zar"/>
              </a:rPr>
              <a:t>پس از پایان فصل دانشجو باید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1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جامعه پژوهشی را تعریف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2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ضمن تعریف نمونه گیری ، انواع آن را بیان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3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روشهای بر آورد حجم نمونه را بیان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در نقد یا اعتبار بیرونی ، سندیت مدرک یا اثر مورد ارزشیابی قرار می گیرد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در اعتبار درونی ، انگیزه ، تمایلات و محدودیتهای صاحب منبع مورد نظر اس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 rtl="1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اولین قدم در نمونه گیری ، تعریف جامعه مورد نظر است وآن عبارت است از اینکه اعضای واقعی یا فرضی که علاقمند هستیم یافته های پژوهش را به آنها تعمیم دهی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نمونه گیری یعنی انتخاب تعدادی از افراد ،حوادث یا اشیاء از یک جامعه تعریف شده به عنوان نماینده آن جامع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مزیت انتخاب یک نمونه از یک جامعه ،جلوگیری از اتلاف وقت وصرفه جویی در منابع مالی است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Content Placeholder 194565"/>
          <p:cNvGrpSpPr/>
          <p:nvPr/>
        </p:nvGrpSpPr>
        <p:grpSpPr>
          <a:xfrm>
            <a:off x="457200" y="762120"/>
            <a:ext cx="8228880" cy="4615560"/>
            <a:chOff x="457200" y="762120"/>
            <a:chExt cx="8228880" cy="4615560"/>
          </a:xfrm>
        </p:grpSpPr>
        <p:cxnSp>
          <p:nvCxnSpPr>
            <p:cNvPr id="490" name="_s1028"/>
            <p:cNvCxnSpPr>
              <a:stCxn id="491" idx="0"/>
              <a:endCxn id="492" idx="2"/>
            </p:cNvCxnSpPr>
            <p:nvPr/>
          </p:nvCxnSpPr>
          <p:spPr>
            <a:xfrm flipV="1" rot="16200000">
              <a:off x="4240440" y="3481200"/>
              <a:ext cx="420120" cy="1694520"/>
            </a:xfrm>
            <a:prstGeom prst="bentConnector3">
              <a:avLst>
                <a:gd name="adj1" fmla="val 216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3" name="_s1029"/>
            <p:cNvCxnSpPr>
              <a:stCxn id="494" idx="0"/>
              <a:endCxn id="492" idx="2"/>
            </p:cNvCxnSpPr>
            <p:nvPr/>
          </p:nvCxnSpPr>
          <p:spPr>
            <a:xfrm flipH="1" flipV="1" rot="5400000">
              <a:off x="2546280" y="3480840"/>
              <a:ext cx="420120" cy="1695240"/>
            </a:xfrm>
            <a:prstGeom prst="bentConnector3">
              <a:avLst>
                <a:gd name="adj1" fmla="val 216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5" name="_s1030"/>
            <p:cNvCxnSpPr>
              <a:stCxn id="492" idx="3"/>
              <a:endCxn id="496" idx="2"/>
            </p:cNvCxnSpPr>
            <p:nvPr/>
          </p:nvCxnSpPr>
          <p:spPr>
            <a:xfrm flipV="1">
              <a:off x="5055840" y="1600920"/>
              <a:ext cx="2178360" cy="209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7" name="_s1031"/>
            <p:cNvCxnSpPr>
              <a:stCxn id="498" idx="3"/>
              <a:endCxn id="496" idx="2"/>
            </p:cNvCxnSpPr>
            <p:nvPr/>
          </p:nvCxnSpPr>
          <p:spPr>
            <a:xfrm flipV="1">
              <a:off x="5055840" y="1600560"/>
              <a:ext cx="2178360" cy="83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6" name="_s1032"/>
            <p:cNvSpPr/>
            <p:nvPr/>
          </p:nvSpPr>
          <p:spPr>
            <a:xfrm>
              <a:off x="5781960" y="7621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ffff"/>
                  </a:solidFill>
                  <a:latin typeface="Arial"/>
                </a:rPr>
                <a:t>روشهای نمونه گیر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_s1033"/>
            <p:cNvSpPr/>
            <p:nvPr/>
          </p:nvSpPr>
          <p:spPr>
            <a:xfrm>
              <a:off x="2151720" y="202068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_s1034"/>
            <p:cNvSpPr/>
            <p:nvPr/>
          </p:nvSpPr>
          <p:spPr>
            <a:xfrm>
              <a:off x="2151720" y="327960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غیر تصادق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_s1035"/>
            <p:cNvSpPr/>
            <p:nvPr/>
          </p:nvSpPr>
          <p:spPr>
            <a:xfrm>
              <a:off x="457200" y="45385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داوطلبان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_s1036"/>
            <p:cNvSpPr/>
            <p:nvPr/>
          </p:nvSpPr>
          <p:spPr>
            <a:xfrm>
              <a:off x="3845520" y="45385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در دستر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Content Placeholder 197637"/>
          <p:cNvGrpSpPr/>
          <p:nvPr/>
        </p:nvGrpSpPr>
        <p:grpSpPr>
          <a:xfrm>
            <a:off x="457200" y="258840"/>
            <a:ext cx="8228160" cy="5806440"/>
            <a:chOff x="457200" y="258840"/>
            <a:chExt cx="8228160" cy="5806440"/>
          </a:xfrm>
        </p:grpSpPr>
        <p:cxnSp>
          <p:nvCxnSpPr>
            <p:cNvPr id="500" name="_s2052"/>
            <p:cNvCxnSpPr>
              <a:stCxn id="501" idx="3"/>
              <a:endCxn id="502" idx="2"/>
            </p:cNvCxnSpPr>
            <p:nvPr/>
          </p:nvCxnSpPr>
          <p:spPr>
            <a:xfrm flipV="1">
              <a:off x="5393880" y="1087560"/>
              <a:ext cx="823320" cy="456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3" name="_s2053"/>
            <p:cNvCxnSpPr>
              <a:stCxn id="504" idx="3"/>
              <a:endCxn id="502" idx="2"/>
            </p:cNvCxnSpPr>
            <p:nvPr/>
          </p:nvCxnSpPr>
          <p:spPr>
            <a:xfrm flipV="1">
              <a:off x="5393880" y="1087560"/>
              <a:ext cx="823320" cy="331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5" name="_s2054"/>
            <p:cNvCxnSpPr>
              <a:stCxn id="506" idx="3"/>
              <a:endCxn id="502" idx="2"/>
            </p:cNvCxnSpPr>
            <p:nvPr/>
          </p:nvCxnSpPr>
          <p:spPr>
            <a:xfrm flipV="1">
              <a:off x="5393880" y="1087920"/>
              <a:ext cx="823320" cy="2074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7" name="_s2055"/>
            <p:cNvCxnSpPr>
              <a:stCxn id="508" idx="3"/>
              <a:endCxn id="502" idx="2"/>
            </p:cNvCxnSpPr>
            <p:nvPr/>
          </p:nvCxnSpPr>
          <p:spPr>
            <a:xfrm flipV="1">
              <a:off x="5393880" y="1087920"/>
              <a:ext cx="823320" cy="83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_s2056"/>
            <p:cNvSpPr/>
            <p:nvPr/>
          </p:nvSpPr>
          <p:spPr>
            <a:xfrm>
              <a:off x="3748320" y="25884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600" spc="-1" strike="noStrike">
                  <a:solidFill>
                    <a:srgbClr val="ffffff"/>
                  </a:solidFill>
                  <a:latin typeface="Arial"/>
                </a:rPr>
                <a:t>انواع نمونه گیری تصادف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_s2057"/>
            <p:cNvSpPr/>
            <p:nvPr/>
          </p:nvSpPr>
          <p:spPr>
            <a:xfrm>
              <a:off x="457200" y="150300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 ساده</a:t>
              </a: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_s2058"/>
            <p:cNvSpPr/>
            <p:nvPr/>
          </p:nvSpPr>
          <p:spPr>
            <a:xfrm>
              <a:off x="457200" y="274716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 منظ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_s2059"/>
            <p:cNvSpPr/>
            <p:nvPr/>
          </p:nvSpPr>
          <p:spPr>
            <a:xfrm>
              <a:off x="457200" y="399168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طبقه ای</a:t>
              </a: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_s2060"/>
            <p:cNvSpPr/>
            <p:nvPr/>
          </p:nvSpPr>
          <p:spPr>
            <a:xfrm>
              <a:off x="457200" y="523584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خوشه ا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خطای نمونه گیری تابع اندازه حجم نمونه است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3e3ff"/>
                </a:solidFill>
                <a:latin typeface="Arial"/>
                <a:cs typeface="B Zar"/>
              </a:rPr>
              <a:t>در شرایط زیر بایستی نمونه را بزرگ انتخاب کرد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وجود متغیرهای کنترل نشده زیاد در تحقی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پیش بینی تفاوت یا همبستگی پایی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تقسیم گروه نمونه به زیرگروههای فرع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نامتجانس بود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عدم وجودوسیله پایا برای اندازه گیری متغیروابست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20:18:51Z</dcterms:created>
  <dc:creator>Your User Name</dc:creator>
  <dc:description/>
  <dc:language>en-US</dc:language>
  <cp:lastModifiedBy>Aramesh</cp:lastModifiedBy>
  <dcterms:modified xsi:type="dcterms:W3CDTF">2020-04-18T10:53:59Z</dcterms:modified>
  <cp:revision>3</cp:revision>
  <dc:subject/>
  <dc:title>نام درس مقدمات روش تحقیق درعلوم تربیتی  تعداد واحد درسی 3واحد  نام منبع  روش تحقیق درروان شناسی وعلوم تربیتی  مولف دکترعلی دلاور  تهیه کننده اسلاید عباس میربلوک بزرگی-عضو هیئت علمی مرکز تالش-منطقه یک</dc:title>
</cp:coreProperties>
</file>